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8.png" ContentType="image/png"/>
  <Override PartName="/ppt/media/image26.png" ContentType="image/png"/>
  <Override PartName="/ppt/media/image23.png" ContentType="image/png"/>
  <Override PartName="/ppt/media/image27.png" ContentType="image/png"/>
  <Override PartName="/ppt/media/image5.jpeg" ContentType="image/jpe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925050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6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65640" cy="35244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t">
            <a:noAutofit/>
          </a:bodyPr>
          <a:p>
            <a:pPr indent="0"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59200" y="-360"/>
            <a:ext cx="4265640" cy="35244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t">
            <a:noAutofit/>
          </a:bodyPr>
          <a:lstStyle>
            <a:lvl1pPr indent="0" algn="r"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93640" y="507600"/>
            <a:ext cx="3333960" cy="25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15800" y="3165120"/>
            <a:ext cx="7289640" cy="300996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330600"/>
            <a:ext cx="4265640" cy="35244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b">
            <a:noAutofit/>
          </a:bodyPr>
          <a:lstStyle>
            <a:lvl1pPr indent="0"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59200" y="6330600"/>
            <a:ext cx="4265640" cy="35244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b">
            <a:noAutofit/>
          </a:bodyPr>
          <a:lstStyle>
            <a:lvl1pPr indent="0" algn="r"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fld id="{3FC080D5-50E8-4DDD-9BEB-07F84D33094E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3298680" y="500040"/>
            <a:ext cx="3333960" cy="25002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320840" y="3166920"/>
            <a:ext cx="7284960" cy="205128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3480" bIns="334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P objectives, 5 for the COP until 2005-2007, 6 now in the COP 2006-2008 – Support for SME’s explicitly included as a CO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objectiv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3A99-E4AC-43B4-B0A4-D023146E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8960" y="252000"/>
            <a:ext cx="6270480" cy="10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8960" y="1719360"/>
            <a:ext cx="7773840" cy="2067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8960" y="3983400"/>
            <a:ext cx="7773840" cy="2067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3980-004B-422D-818A-6D0DD9B1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8960" y="252000"/>
            <a:ext cx="6270480" cy="10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8960" y="1719360"/>
            <a:ext cx="3793320" cy="2067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360" y="1719360"/>
            <a:ext cx="3793320" cy="2067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8960" y="3983400"/>
            <a:ext cx="3793320" cy="2067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360" y="3983400"/>
            <a:ext cx="3793320" cy="2067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BA79-1D93-457F-B1BC-6399FEF2A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8960" y="252000"/>
            <a:ext cx="6270480" cy="10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8960" y="1719360"/>
            <a:ext cx="2503080" cy="2067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7680" y="1719360"/>
            <a:ext cx="2503080" cy="2067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46040" y="1719360"/>
            <a:ext cx="2503080" cy="2067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8960" y="3983400"/>
            <a:ext cx="2503080" cy="2067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7680" y="3983400"/>
            <a:ext cx="2503080" cy="2067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46040" y="3983400"/>
            <a:ext cx="2503080" cy="2067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0DC8-A061-456B-BF84-7F730F265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8960" y="252000"/>
            <a:ext cx="6270480" cy="10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8960" y="1719360"/>
            <a:ext cx="777384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1551-2F62-4C08-8682-790DD47B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8960" y="252000"/>
            <a:ext cx="6270480" cy="10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8960" y="1719360"/>
            <a:ext cx="777384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8F46-963D-4CA9-B392-CE833177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8960" y="252000"/>
            <a:ext cx="6270480" cy="10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8960" y="1719360"/>
            <a:ext cx="37933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2360" y="1719360"/>
            <a:ext cx="37933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7ED0-36DC-4B86-B058-AFCE5096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8960" y="252000"/>
            <a:ext cx="6270480" cy="10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DA47-53BC-4B41-B752-98B6C511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8960" y="252000"/>
            <a:ext cx="627048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7C99-BDB4-4D16-B9C5-329DEA71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8960" y="252000"/>
            <a:ext cx="6270480" cy="10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8960" y="1719360"/>
            <a:ext cx="3793320" cy="2067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2360" y="1719360"/>
            <a:ext cx="37933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8960" y="3983400"/>
            <a:ext cx="3793320" cy="2067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8729-0B45-459E-BDE2-537F797B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8960" y="252000"/>
            <a:ext cx="6270480" cy="10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8960" y="1719360"/>
            <a:ext cx="37933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2360" y="1719360"/>
            <a:ext cx="3793320" cy="2067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360" y="3983400"/>
            <a:ext cx="3793320" cy="2067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6E4A-D122-49F6-BD72-B9F9F679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8960" y="252000"/>
            <a:ext cx="6270480" cy="10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8960" y="1719360"/>
            <a:ext cx="3793320" cy="2067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360" y="1719360"/>
            <a:ext cx="3793320" cy="2067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8960" y="3983400"/>
            <a:ext cx="7773840" cy="2067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C3C1-432E-4B30-A2E4-69B3E572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8960" y="252000"/>
            <a:ext cx="6270480" cy="10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8960" y="1719360"/>
            <a:ext cx="777384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24"/>
              </a:spcBef>
              <a:buClr>
                <a:srgbClr val="003399"/>
              </a:buClr>
              <a:buSzPct val="120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524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524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524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524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524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3960" y="6427800"/>
            <a:ext cx="190512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CD16-9727-42C3-AEB6-68972262D10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png"/><Relationship Id="rId30" Type="http://schemas.openxmlformats.org/officeDocument/2006/relationships/image" Target="../media/image31.png"/><Relationship Id="rId3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6400" y="482760"/>
            <a:ext cx="2946600" cy="1358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280" y="2514600"/>
            <a:ext cx="8839440" cy="38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CH" sz="2800" spc="-1" strike="noStrike">
                <a:solidFill>
                  <a:srgbClr val="333399"/>
                </a:solidFill>
                <a:latin typeface="Arial"/>
              </a:rPr>
              <a:t>« Il RUOLO DEL GRUPPO BEI NELLA POLITICA DELL’UE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CH" sz="2600" spc="-1" strike="noStrike">
                <a:solidFill>
                  <a:srgbClr val="333399"/>
                </a:solidFill>
                <a:latin typeface="Arial"/>
              </a:rPr>
              <a:t>Finanza per la Scienza, la Tecnologia e l’Innovazi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CH" sz="2200" spc="-1" strike="noStrike">
                <a:solidFill>
                  <a:srgbClr val="333399"/>
                </a:solidFill>
                <a:latin typeface="Arial"/>
              </a:rPr>
              <a:t>Venerdi 3 Novembre 200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SAULI NIINISTÖ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Vice Presiden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7537-1C17-4B27-8E26-81FFE6105263}" type="slidenum">
              <a:t>1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1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9440" y="450720"/>
            <a:ext cx="693576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3399"/>
                </a:solidFill>
                <a:latin typeface="Arial"/>
              </a:rPr>
              <a:t>THE EIB GROUP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9800" y="2212920"/>
            <a:ext cx="7718400" cy="29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marL="466560" indent="-466560">
              <a:lnSpc>
                <a:spcPct val="100000"/>
              </a:lnSpc>
              <a:spcBef>
                <a:spcPts val="244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EUROPEAN INVESTMENT BANK (EIB) – 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European Union’s Financing Instit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lnSpc>
                <a:spcPct val="100000"/>
              </a:lnSpc>
              <a:spcBef>
                <a:spcPts val="244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EUROPEAN INVESTMENT FUND (EIF) – 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EIB’s specialised venture capital arm and SME guarantee prov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74000" y="260280"/>
            <a:ext cx="1708200" cy="703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861760" y="6427800"/>
            <a:ext cx="2361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CH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A9C4-3273-4B0B-BCBA-218AEF6DF080}" type="slidenum">
              <a:t>2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16002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374760"/>
            <a:ext cx="62690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3399"/>
                </a:solidFill>
                <a:latin typeface="Arial"/>
              </a:rPr>
              <a:t>EIB STRATEGIC OUTLOOK </a:t>
            </a:r>
            <a:br>
              <a:rPr sz="2100"/>
            </a:b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8760" y="1808280"/>
            <a:ext cx="8091360" cy="37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marL="466560" indent="-4665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1108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6 Corporate Priority Objecti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10960">
              <a:lnSpc>
                <a:spcPct val="100000"/>
              </a:lnSpc>
              <a:spcBef>
                <a:spcPts val="8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81108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conomic and social cohesion in an enlarged E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10960">
              <a:lnSpc>
                <a:spcPct val="100000"/>
              </a:lnSpc>
              <a:spcBef>
                <a:spcPts val="8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81108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mplementing of the Innovation 2010 Initiative (i2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10960">
              <a:lnSpc>
                <a:spcPct val="100000"/>
              </a:lnSpc>
              <a:spcBef>
                <a:spcPts val="8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81108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velopment of Trans-European and Access networks (TEN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10960">
              <a:lnSpc>
                <a:spcPct val="100000"/>
              </a:lnSpc>
              <a:spcBef>
                <a:spcPts val="8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81108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pport for Small &amp; Medium Sized Enterpri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10960">
              <a:lnSpc>
                <a:spcPct val="100000"/>
              </a:lnSpc>
              <a:spcBef>
                <a:spcPts val="8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81108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vironmental Sustain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210960">
              <a:lnSpc>
                <a:spcPct val="100000"/>
              </a:lnSpc>
              <a:spcBef>
                <a:spcPts val="825"/>
              </a:spcBef>
              <a:buClr>
                <a:srgbClr val="003399"/>
              </a:buClr>
              <a:buFont typeface="Wingdings" charset="2"/>
              <a:buChar char=""/>
              <a:tabLst>
                <a:tab algn="l" pos="81108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of EU Development and Cooperation Policies in Partner Count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8760" y="5695920"/>
            <a:ext cx="7697520" cy="8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500" spc="-1" strike="noStrike">
                <a:solidFill>
                  <a:srgbClr val="800019"/>
                </a:solidFill>
                <a:latin typeface="Arial"/>
              </a:rPr>
              <a:t>EIB implements EU policies;</a:t>
            </a:r>
            <a:r>
              <a:rPr b="1" lang="en-GB" sz="2500" spc="-1" strike="noStrike">
                <a:solidFill>
                  <a:srgbClr val="800019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GB" sz="2500" spc="-1" strike="noStrike">
                <a:solidFill>
                  <a:srgbClr val="800019"/>
                </a:solidFill>
                <a:latin typeface="Arial"/>
              </a:rPr>
              <a:t>a policy driven Ban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074000" y="260280"/>
            <a:ext cx="1708200" cy="70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60B8-2170-423B-B4AA-66BF989FA010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600" y="0"/>
            <a:ext cx="9131400" cy="13366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455760"/>
            <a:ext cx="624672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99"/>
                </a:solidFill>
                <a:latin typeface="Arial"/>
              </a:rPr>
              <a:t>EIB OWNERSHIP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074000" y="260280"/>
            <a:ext cx="1708200" cy="70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374760" y="2892600"/>
          <a:ext cx="4662360" cy="27162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4760" y="2892600"/>
                    <a:ext cx="4662360" cy="27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179360" y="2409840"/>
            <a:ext cx="2732400" cy="268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CH" sz="1400" spc="-1" strike="noStrike">
                <a:solidFill>
                  <a:srgbClr val="000099"/>
                </a:solidFill>
                <a:latin typeface="Arial"/>
              </a:rPr>
              <a:t>EIB’s sharehol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4910040" y="2523960"/>
            <a:ext cx="233640" cy="123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4910040" y="3257640"/>
            <a:ext cx="233640" cy="123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4910040" y="3075120"/>
            <a:ext cx="233640" cy="123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>
            <a:off x="4910040" y="2340000"/>
            <a:ext cx="233640" cy="125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0"/>
          <a:stretch/>
        </p:blipFill>
        <p:spPr>
          <a:xfrm>
            <a:off x="4910040" y="3621240"/>
            <a:ext cx="233640" cy="125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1"/>
          <a:stretch/>
        </p:blipFill>
        <p:spPr>
          <a:xfrm>
            <a:off x="4910040" y="1785960"/>
            <a:ext cx="233640" cy="125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2"/>
          <a:stretch/>
        </p:blipFill>
        <p:spPr>
          <a:xfrm>
            <a:off x="4910040" y="3805200"/>
            <a:ext cx="233640" cy="125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3"/>
          <a:stretch/>
        </p:blipFill>
        <p:spPr>
          <a:xfrm>
            <a:off x="4910040" y="4497480"/>
            <a:ext cx="233640" cy="125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4"/>
          <a:stretch/>
        </p:blipFill>
        <p:spPr>
          <a:xfrm>
            <a:off x="4910040" y="1973160"/>
            <a:ext cx="233640" cy="125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5"/>
          <a:stretch/>
        </p:blipFill>
        <p:spPr>
          <a:xfrm>
            <a:off x="4910040" y="2705040"/>
            <a:ext cx="233640" cy="123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6"/>
          <a:stretch/>
        </p:blipFill>
        <p:spPr>
          <a:xfrm>
            <a:off x="4897440" y="5221440"/>
            <a:ext cx="235080" cy="123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7"/>
          <a:stretch/>
        </p:blipFill>
        <p:spPr>
          <a:xfrm>
            <a:off x="4910040" y="2890800"/>
            <a:ext cx="233640" cy="125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8"/>
          <a:stretch/>
        </p:blipFill>
        <p:spPr>
          <a:xfrm>
            <a:off x="4910040" y="2157480"/>
            <a:ext cx="233640" cy="123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9"/>
          <a:stretch/>
        </p:blipFill>
        <p:spPr>
          <a:xfrm>
            <a:off x="4910040" y="3440160"/>
            <a:ext cx="233640" cy="141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0"/>
          <a:stretch/>
        </p:blipFill>
        <p:spPr>
          <a:xfrm>
            <a:off x="4910040" y="4130640"/>
            <a:ext cx="233640" cy="141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1"/>
          <a:stretch/>
        </p:blipFill>
        <p:spPr>
          <a:xfrm>
            <a:off x="4910040" y="5415120"/>
            <a:ext cx="233640" cy="125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2"/>
          <a:stretch/>
        </p:blipFill>
        <p:spPr>
          <a:xfrm>
            <a:off x="4910040" y="5030640"/>
            <a:ext cx="233640" cy="138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3"/>
          <a:stretch/>
        </p:blipFill>
        <p:spPr>
          <a:xfrm>
            <a:off x="4910040" y="5597640"/>
            <a:ext cx="233640" cy="122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4"/>
          <a:stretch/>
        </p:blipFill>
        <p:spPr>
          <a:xfrm>
            <a:off x="4910040" y="1606680"/>
            <a:ext cx="233640" cy="125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5"/>
          <a:stretch/>
        </p:blipFill>
        <p:spPr>
          <a:xfrm>
            <a:off x="4910040" y="3948120"/>
            <a:ext cx="23364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6"/>
          <a:stretch/>
        </p:blipFill>
        <p:spPr>
          <a:xfrm>
            <a:off x="4910040" y="4314960"/>
            <a:ext cx="233640" cy="137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7"/>
          <a:stretch/>
        </p:blipFill>
        <p:spPr>
          <a:xfrm>
            <a:off x="4910040" y="4667400"/>
            <a:ext cx="233640" cy="136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8"/>
          <a:stretch/>
        </p:blipFill>
        <p:spPr>
          <a:xfrm>
            <a:off x="4910040" y="4867200"/>
            <a:ext cx="233640" cy="120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9"/>
          <a:stretch/>
        </p:blipFill>
        <p:spPr>
          <a:xfrm>
            <a:off x="4910040" y="5721480"/>
            <a:ext cx="233640" cy="141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0"/>
          <a:stretch/>
        </p:blipFill>
        <p:spPr>
          <a:xfrm>
            <a:off x="4910040" y="5904000"/>
            <a:ext cx="233640" cy="139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822920" y="6146640"/>
            <a:ext cx="37846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88120" y="1617840"/>
            <a:ext cx="5904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16200" y="1623960"/>
            <a:ext cx="608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German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21560" y="1617840"/>
            <a:ext cx="2966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49640" y="1623960"/>
            <a:ext cx="302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AA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96200" y="1617840"/>
            <a:ext cx="4618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24640" y="1623960"/>
            <a:ext cx="476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16.28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88120" y="1793880"/>
            <a:ext cx="44928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19440" y="1798560"/>
            <a:ext cx="459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Fr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21560" y="1793880"/>
            <a:ext cx="296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49640" y="1798560"/>
            <a:ext cx="302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AA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96200" y="1793880"/>
            <a:ext cx="46188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24640" y="1798560"/>
            <a:ext cx="476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16.28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88120" y="1971720"/>
            <a:ext cx="2728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6560" y="1976400"/>
            <a:ext cx="282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Ital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72320" y="1971720"/>
            <a:ext cx="1983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02200" y="1976400"/>
            <a:ext cx="201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A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96200" y="1971720"/>
            <a:ext cx="4618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24640" y="1976400"/>
            <a:ext cx="476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16.28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8120" y="2147760"/>
            <a:ext cx="105228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6560" y="2152800"/>
            <a:ext cx="1082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United Kingd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21560" y="2147760"/>
            <a:ext cx="296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49640" y="2152800"/>
            <a:ext cx="302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AA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96200" y="2147760"/>
            <a:ext cx="46188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24640" y="2152800"/>
            <a:ext cx="476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16.28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88120" y="2324160"/>
            <a:ext cx="372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9440" y="2328840"/>
            <a:ext cx="381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Spa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21560" y="2324160"/>
            <a:ext cx="2966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49640" y="2328840"/>
            <a:ext cx="302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AA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37600" y="2324160"/>
            <a:ext cx="3873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66040" y="232884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80"/>
                </a:solidFill>
                <a:latin typeface="Arial"/>
              </a:rPr>
              <a:t>9.77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88120" y="2521080"/>
            <a:ext cx="5378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8000" y="2527200"/>
            <a:ext cx="554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Belgiu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72320" y="2521080"/>
            <a:ext cx="1983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02200" y="2527200"/>
            <a:ext cx="201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A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69280" y="2521080"/>
            <a:ext cx="385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97720" y="252720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4.51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88120" y="2698920"/>
            <a:ext cx="10681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15840" y="2705040"/>
            <a:ext cx="1098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The Netherlan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21560" y="2698920"/>
            <a:ext cx="2966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49640" y="2705040"/>
            <a:ext cx="302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AA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9280" y="2698920"/>
            <a:ext cx="385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97720" y="270504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4.51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88120" y="2874960"/>
            <a:ext cx="51588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20880" y="2881440"/>
            <a:ext cx="529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Swed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21560" y="2874960"/>
            <a:ext cx="296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49640" y="2881440"/>
            <a:ext cx="302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AA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9280" y="2874960"/>
            <a:ext cx="3855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97720" y="288144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2.99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88120" y="3051000"/>
            <a:ext cx="58392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19080" y="3057480"/>
            <a:ext cx="599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Denmar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21560" y="3051000"/>
            <a:ext cx="296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49640" y="3057480"/>
            <a:ext cx="302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AA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69280" y="3051000"/>
            <a:ext cx="3855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97720" y="305748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2.28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88120" y="3228840"/>
            <a:ext cx="469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17640" y="3235320"/>
            <a:ext cx="483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Austr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21560" y="3228840"/>
            <a:ext cx="296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49640" y="3235320"/>
            <a:ext cx="302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AA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69280" y="3228840"/>
            <a:ext cx="3855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97720" y="323532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2.24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88120" y="3405240"/>
            <a:ext cx="4572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19440" y="3411360"/>
            <a:ext cx="466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Po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13720" y="3405240"/>
            <a:ext cx="99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44680" y="341136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69280" y="3405240"/>
            <a:ext cx="385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97720" y="341136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2.08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88120" y="3583080"/>
            <a:ext cx="4856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18720" y="3589200"/>
            <a:ext cx="49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Fin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21560" y="3583080"/>
            <a:ext cx="2966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49640" y="3589200"/>
            <a:ext cx="302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AA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469280" y="3583080"/>
            <a:ext cx="385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97720" y="358920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1.29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88120" y="3759120"/>
            <a:ext cx="46188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8720" y="3765600"/>
            <a:ext cx="476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Gree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3720" y="3759120"/>
            <a:ext cx="9972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44680" y="376560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69280" y="3759120"/>
            <a:ext cx="3855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97720" y="376560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1.22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88120" y="3935520"/>
            <a:ext cx="554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18360" y="3941640"/>
            <a:ext cx="569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Portug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72320" y="3935520"/>
            <a:ext cx="1983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02200" y="3941640"/>
            <a:ext cx="201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A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69280" y="3935520"/>
            <a:ext cx="385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497720" y="394164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0.79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88120" y="4113360"/>
            <a:ext cx="10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17280" y="4118040"/>
            <a:ext cx="1043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Czech Republ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13720" y="4113360"/>
            <a:ext cx="99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44680" y="411804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69280" y="4113360"/>
            <a:ext cx="385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97720" y="411804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0.77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88120" y="4289400"/>
            <a:ext cx="55548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16920" y="4294080"/>
            <a:ext cx="567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Hung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13720" y="4289400"/>
            <a:ext cx="9972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44680" y="429408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469280" y="4289400"/>
            <a:ext cx="3855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497720" y="429408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0.73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88120" y="4465800"/>
            <a:ext cx="4474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8720" y="4470480"/>
            <a:ext cx="460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Ire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21560" y="4465800"/>
            <a:ext cx="2966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49640" y="4470480"/>
            <a:ext cx="302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AA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469280" y="4465800"/>
            <a:ext cx="385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497720" y="447048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0.57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88120" y="4643280"/>
            <a:ext cx="5540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8360" y="4648320"/>
            <a:ext cx="569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Slovak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13720" y="4643280"/>
            <a:ext cx="9972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44680" y="464832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469280" y="4643280"/>
            <a:ext cx="3855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97720" y="464832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0.26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88120" y="4819680"/>
            <a:ext cx="5619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8720" y="4824360"/>
            <a:ext cx="576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Sloven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72320" y="4819680"/>
            <a:ext cx="198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02200" y="4824360"/>
            <a:ext cx="201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A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469280" y="4819680"/>
            <a:ext cx="3855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97720" y="482436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0.24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88120" y="4995720"/>
            <a:ext cx="60624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8000" y="5002200"/>
            <a:ext cx="623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Lithuan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13720" y="4995720"/>
            <a:ext cx="997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44680" y="500220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469280" y="4995720"/>
            <a:ext cx="38556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97720" y="500220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0.15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88120" y="5172120"/>
            <a:ext cx="8269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18000" y="5178600"/>
            <a:ext cx="848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Luxembou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21560" y="5172120"/>
            <a:ext cx="29664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49640" y="5178600"/>
            <a:ext cx="302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AA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469280" y="5172120"/>
            <a:ext cx="38556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497720" y="517860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0.11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88120" y="5348160"/>
            <a:ext cx="47124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17280" y="5354640"/>
            <a:ext cx="482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Cypr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13720" y="5348160"/>
            <a:ext cx="997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44680" y="535464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69280" y="5348160"/>
            <a:ext cx="38556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97720" y="535464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0.11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88120" y="5526000"/>
            <a:ext cx="39528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9080" y="5532480"/>
            <a:ext cx="406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Latv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13720" y="5526000"/>
            <a:ext cx="9972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44680" y="553248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469280" y="5526000"/>
            <a:ext cx="3855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497720" y="553248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0.09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88120" y="5702400"/>
            <a:ext cx="493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8720" y="5708520"/>
            <a:ext cx="506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Eston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13720" y="5702400"/>
            <a:ext cx="99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44680" y="570852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469280" y="5702400"/>
            <a:ext cx="385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497720" y="570852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0.07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88120" y="5880240"/>
            <a:ext cx="3474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19080" y="5886360"/>
            <a:ext cx="36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Mal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13720" y="5880240"/>
            <a:ext cx="99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44680" y="588636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69280" y="5880240"/>
            <a:ext cx="385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497720" y="588636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Arial"/>
              </a:rPr>
              <a:t>0.04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59280" y="6353280"/>
            <a:ext cx="2536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0788-A1A4-4CDC-9ED7-A88A072F8168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11360" y="5803920"/>
            <a:ext cx="6937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lvl="4" marL="53640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9040" y="2019240"/>
            <a:ext cx="73436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4606920"/>
            <a:ext cx="88408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lvl="1" marL="990720" indent="-428760" algn="just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Gap between US and EU: about € 120 billion a year.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428760" algn="just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Europe is weak in translating the results of research into innovative products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428760" algn="just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Scientists and researchers per 1000 workforce 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428760" algn="just">
              <a:lnSpc>
                <a:spcPct val="90000"/>
              </a:lnSpc>
              <a:tabLst>
                <a:tab algn="l" pos="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EU: 5.3,</a:t>
            </a:r>
            <a:r>
              <a:rPr b="0" lang="en-GB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US: 9,</a:t>
            </a:r>
            <a:r>
              <a:rPr b="0" lang="en-GB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Japan: 9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41440" y="1606680"/>
          <a:ext cx="8453160" cy="298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440" y="1606680"/>
                    <a:ext cx="8453160" cy="29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5281560" y="1604880"/>
            <a:ext cx="368496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1700" spc="-1" strike="noStrike">
                <a:solidFill>
                  <a:srgbClr val="003399"/>
                </a:solidFill>
                <a:latin typeface="Arial"/>
              </a:rPr>
              <a:t>R&amp;D Investment in relation to GD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0760" cy="16002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28600" y="457200"/>
            <a:ext cx="6269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33399"/>
                </a:solidFill>
                <a:latin typeface="Arial"/>
              </a:rPr>
              <a:t>LISBON AGENDA</a:t>
            </a:r>
            <a:br>
              <a:rPr sz="2100"/>
            </a:br>
            <a:r>
              <a:rPr b="0" lang="en-GB" sz="2100" spc="-1" strike="noStrike">
                <a:solidFill>
                  <a:srgbClr val="333399"/>
                </a:solidFill>
                <a:latin typeface="Arial"/>
              </a:rPr>
              <a:t>Some Fac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7074000" y="260280"/>
            <a:ext cx="1708200" cy="70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CD78-FD6F-46E4-A2FB-64E1338EB870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16002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04920" y="380880"/>
            <a:ext cx="23619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33399"/>
                </a:solidFill>
                <a:latin typeface="Arial"/>
              </a:rPr>
              <a:t>LISBON AGEND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33399"/>
                </a:solidFill>
                <a:latin typeface="Arial"/>
              </a:rPr>
              <a:t>Aim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7074000" y="380880"/>
            <a:ext cx="1708200" cy="7034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0800" y="6019920"/>
            <a:ext cx="6937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noAutofit/>
          </a:bodyPr>
          <a:p>
            <a:pPr lvl="4" marL="53640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8480" y="2235240"/>
            <a:ext cx="73440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9320" y="2276640"/>
            <a:ext cx="78012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marL="428760" indent="-428760" algn="just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500" spc="-1" strike="noStrike">
                <a:solidFill>
                  <a:srgbClr val="003399"/>
                </a:solidFill>
                <a:latin typeface="Arial"/>
                <a:ea typeface="Times New Roman"/>
              </a:rPr>
              <a:t>the EU becoming “the most dynamic and competitive knowledge-based economy in the world” by 2010.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6960" y="3429000"/>
            <a:ext cx="7715160" cy="482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CH" sz="2500" spc="-1" strike="noStrike">
                <a:solidFill>
                  <a:srgbClr val="ffffff"/>
                </a:solidFill>
                <a:latin typeface="Times New Roman"/>
              </a:rPr>
              <a:t>Main Areas For Ac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6960" y="4125960"/>
            <a:ext cx="2517840" cy="139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94280" y="4125960"/>
            <a:ext cx="2517840" cy="139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95800" y="4125960"/>
            <a:ext cx="2517480" cy="139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03160" y="4232160"/>
            <a:ext cx="2357640" cy="12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CH" sz="2500" spc="-1" strike="noStrike">
                <a:solidFill>
                  <a:srgbClr val="000000"/>
                </a:solidFill>
                <a:latin typeface="Times New Roman"/>
              </a:rPr>
              <a:t>Establishing an effective internal marke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76440" y="4232160"/>
            <a:ext cx="2357640" cy="12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CH" sz="2500" spc="-1" strike="noStrike">
                <a:solidFill>
                  <a:srgbClr val="000000"/>
                </a:solidFill>
                <a:latin typeface="Times New Roman"/>
              </a:rPr>
              <a:t>Boosting research and innov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48280" y="4232160"/>
            <a:ext cx="2357640" cy="8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fr-CH" sz="2500" spc="-1" strike="noStrike">
                <a:solidFill>
                  <a:srgbClr val="000000"/>
                </a:solidFill>
                <a:latin typeface="Times New Roman"/>
              </a:rPr>
              <a:t>Improving educt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C8BB-3F81-4DEF-87B0-01BF1C3E1AEA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1447920" y="2292480"/>
            <a:ext cx="4343400" cy="30416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754200" y="358920"/>
            <a:ext cx="9862920" cy="10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38680" y="2438280"/>
            <a:ext cx="80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2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2971800"/>
            <a:ext cx="80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2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358920"/>
            <a:ext cx="89154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99"/>
                </a:solidFill>
                <a:latin typeface="Arial"/>
                <a:ea typeface="Times New Roman"/>
              </a:rPr>
              <a:t>EIB’S i2i VOLUMES</a:t>
            </a:r>
            <a:br>
              <a:rPr sz="2100"/>
            </a:br>
            <a:r>
              <a:rPr b="0" lang="en-GB" sz="2100" spc="-1" strike="noStrike">
                <a:solidFill>
                  <a:srgbClr val="003399"/>
                </a:solidFill>
                <a:latin typeface="Arial"/>
                <a:ea typeface="Times New Roman"/>
              </a:rPr>
              <a:t>SOME 25 BN SIGNED SINCE LAUNCH 2000</a:t>
            </a:r>
            <a:br>
              <a:rPr sz="2100"/>
            </a:br>
            <a:r>
              <a:rPr b="0" lang="en-GB" sz="1800" spc="-1" strike="noStrike">
                <a:solidFill>
                  <a:srgbClr val="00489e"/>
                </a:solidFill>
                <a:latin typeface="Arial"/>
              </a:rPr>
              <a:t>EIB: EUR 22.5 bn AND EIF EUR 2.5 bn</a:t>
            </a:r>
            <a:r>
              <a:rPr b="0" lang="fr-FR" sz="18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62240" y="5410080"/>
            <a:ext cx="80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4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90920" y="1905120"/>
            <a:ext cx="79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8080" y="8277120"/>
            <a:ext cx="9864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59520" y="5029560"/>
            <a:ext cx="390816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>
              <a:lnSpc>
                <a:spcPct val="100000"/>
              </a:lnSpc>
              <a:spcAft>
                <a:spcPts val="751"/>
              </a:spcAft>
              <a:buClr>
                <a:srgbClr val="3366cc"/>
              </a:buClr>
              <a:buSzPct val="12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Education &amp;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buClr>
                <a:srgbClr val="ffdf75"/>
              </a:buClr>
              <a:buSzPct val="12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Research &amp;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buClr>
                <a:srgbClr val="66cc33"/>
              </a:buClr>
              <a:buSzPct val="12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buClr>
                <a:srgbClr val="cc66cc"/>
              </a:buClr>
              <a:buSzPct val="12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European Investment F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7074000" y="260280"/>
            <a:ext cx="1708200" cy="70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599F-FC25-49CD-AEAA-4575B07A71E0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642960" y="2089080"/>
            <a:ext cx="6912000" cy="31910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0" y="5462640"/>
            <a:ext cx="9144000" cy="7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http://www.eib.or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5815-8260-489F-8CE0-373F66FDB63E}" type="slidenum">
              <a:t>8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10:15:44Z</dcterms:created>
  <dc:creator>D. Wortmann</dc:creator>
  <dc:description/>
  <dc:language>en-US</dc:language>
  <cp:lastModifiedBy>Patrizia</cp:lastModifiedBy>
  <dcterms:modified xsi:type="dcterms:W3CDTF">2006-11-02T12:35:17Z</dcterms:modified>
  <cp:revision>650</cp:revision>
  <dc:subject/>
  <dc:title>EIB General Presentation 2004</dc:title>
</cp:coreProperties>
</file>