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69840" y="774360"/>
            <a:ext cx="484992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46"/>
                </a:solidFill>
                <a:uFillTx/>
                <a:latin typeface="Arial"/>
              </a:rPr>
              <a:t>Click to move the slide</a:t>
            </a: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2960" y="4722480"/>
            <a:ext cx="4946400" cy="4413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9367920"/>
            <a:ext cx="2892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C62DBE-5E74-4F26-88FD-F6D540133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6BB9E5E-055F-42BD-9475-83ED4139B9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6D79B0-BFE0-480E-BF0B-32E4AEA5E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40091F-F25B-40D6-A003-139DF76DC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10104F-023A-4BC0-B44D-A7881B49E3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73E13D9-4BE7-46AC-B35E-F831DB6FE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564CE0B-39D5-4DE3-A866-E5CBB28ED9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06640" y="9367920"/>
            <a:ext cx="296532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D92B779-9834-40FA-90FB-E39A475A4E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892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6640" y="0"/>
            <a:ext cx="296532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072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46"/>
                </a:solidFill>
                <a:uFillTx/>
                <a:latin typeface="Arial"/>
              </a:rPr>
              <a:t>Click to edit the title text format</a:t>
            </a: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4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46"/>
              </a:solidFill>
              <a:latin typeface="Arial"/>
            </a:endParaRPr>
          </a:p>
          <a:p>
            <a:pPr lvl="3" marL="1600200" indent="-228600">
              <a:spcBef>
                <a:spcPts val="224"/>
              </a:spcBef>
              <a:buClr>
                <a:srgbClr val="ff33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6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4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3300"/>
              </a:buClr>
              <a:buFont typeface="Monotype Sorts" charset="2"/>
              <a:buChar char="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9072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010280" y="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745400" y="6665760"/>
          <a:ext cx="1398600" cy="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5400" y="6665760"/>
                    <a:ext cx="1398600" cy="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46"/>
                </a:solidFill>
                <a:uFillTx/>
                <a:latin typeface="Arial"/>
              </a:rPr>
              <a:t>Click to edit the title text format</a:t>
            </a: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lvl="1" marL="457200"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4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46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buClr>
                <a:srgbClr val="ff3300"/>
              </a:buClr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6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4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3300"/>
              </a:buClr>
              <a:buFont typeface="Monotype Sorts" charset="2"/>
              <a:buChar char="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203480"/>
            <a:ext cx="835344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400" spc="-1" strike="noStrike">
                <a:solidFill>
                  <a:srgbClr val="ff0000"/>
                </a:solidFill>
                <a:latin typeface="Arial"/>
              </a:rPr>
              <a:t>Uno sguardo avanti…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i="1" lang="fr-BE" sz="3400" spc="-1" strike="noStrike">
                <a:solidFill>
                  <a:srgbClr val="ff0000"/>
                </a:solidFill>
                <a:latin typeface="Arial"/>
              </a:rPr>
              <a:t>e oltr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3 Novem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Ezio And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952720"/>
            <a:ext cx="9009000" cy="1052640"/>
            <a:chOff x="0" y="2952720"/>
            <a:chExt cx="9009000" cy="1052640"/>
          </a:xfrm>
        </p:grpSpPr>
        <p:grpSp>
          <p:nvGrpSpPr>
            <p:cNvPr id="91" name=""/>
            <p:cNvGrpSpPr/>
            <p:nvPr/>
          </p:nvGrpSpPr>
          <p:grpSpPr>
            <a:xfrm>
              <a:off x="290520" y="3060720"/>
              <a:ext cx="711360" cy="474840"/>
              <a:chOff x="290520" y="3060720"/>
              <a:chExt cx="711360" cy="474840"/>
            </a:xfrm>
          </p:grpSpPr>
          <p:sp>
            <p:nvSpPr>
              <p:cNvPr id="92" name=""/>
              <p:cNvSpPr/>
              <p:nvPr/>
            </p:nvSpPr>
            <p:spPr>
              <a:xfrm>
                <a:off x="290520" y="3060720"/>
                <a:ext cx="437400" cy="474840"/>
              </a:xfrm>
              <a:prstGeom prst="rect">
                <a:avLst/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3560" y="306072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14360" y="3483000"/>
              <a:ext cx="737640" cy="474840"/>
              <a:chOff x="414360" y="3483000"/>
              <a:chExt cx="737640" cy="474840"/>
            </a:xfrm>
          </p:grpSpPr>
          <p:sp>
            <p:nvSpPr>
              <p:cNvPr id="95" name=""/>
              <p:cNvSpPr/>
              <p:nvPr/>
            </p:nvSpPr>
            <p:spPr>
              <a:xfrm>
                <a:off x="414360" y="3483000"/>
                <a:ext cx="42156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3000" y="348300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0" y="34099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5040" y="295272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6080" y="37749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2565360"/>
            <a:ext cx="360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97180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Quality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Research and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10778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EU attrac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637400" y="6773760"/>
          <a:ext cx="1398600" cy="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7400" y="6773760"/>
                    <a:ext cx="1398600" cy="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Base" hidden="1"/>
          <p:cNvSpPr/>
          <p:nvPr/>
        </p:nvSpPr>
        <p:spPr>
          <a:xfrm>
            <a:off x="1415880" y="15048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08000" y="1459080"/>
          <a:ext cx="7655040" cy="402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8000" y="1459080"/>
                    <a:ext cx="765504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47280" y="5336640"/>
            <a:ext cx="838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46"/>
                </a:solidFill>
                <a:latin typeface="Arial"/>
              </a:rPr>
              <a:t>Lacking technology champions</a:t>
            </a:r>
            <a:endParaRPr b="1" lang="en-US" sz="2000" spc="-1" strike="noStrike">
              <a:solidFill>
                <a:srgbClr val="00004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46"/>
                </a:solidFill>
                <a:latin typeface="Arial"/>
              </a:rPr>
              <a:t>Also public procurement, loans, etc.</a:t>
            </a:r>
            <a:endParaRPr b="1" lang="en-US" sz="20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000" y="5121360"/>
            <a:ext cx="8244000" cy="0"/>
          </a:xfrm>
          <a:prstGeom prst="line">
            <a:avLst/>
          </a:prstGeom>
          <a:ln w="38160">
            <a:solidFill>
              <a:srgbClr val="ed66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8280" y="18082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-Tech venture capital by stage (per 1000 GDP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806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Financing Technology</a:t>
            </a:r>
            <a:br>
              <a:rPr sz="2800"/>
            </a:b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Venture Capital needs Expansion</a:t>
            </a: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5286240"/>
            <a:ext cx="3664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360" y="352440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36000" y="6073920"/>
            <a:ext cx="4698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26920" y="5300640"/>
            <a:ext cx="1584360" cy="287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92200" y="4869000"/>
            <a:ext cx="1603440" cy="449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1052640"/>
            <a:ext cx="0" cy="49402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94200" y="1042920"/>
            <a:ext cx="0" cy="49402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1052640"/>
            <a:ext cx="0" cy="4940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5880" y="187308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85880" y="1295280"/>
            <a:ext cx="0" cy="4725360"/>
            <a:chOff x="785880" y="1295280"/>
            <a:chExt cx="0" cy="4725360"/>
          </a:xfrm>
        </p:grpSpPr>
        <p:sp>
          <p:nvSpPr>
            <p:cNvPr id="110" name=""/>
            <p:cNvSpPr/>
            <p:nvPr/>
          </p:nvSpPr>
          <p:spPr>
            <a:xfrm>
              <a:off x="785880" y="129528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5880" y="247716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5880" y="306540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5880" y="365652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5880" y="424764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5880" y="483876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880" y="542988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951200" y="6029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6029280"/>
            <a:ext cx="8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8880" y="6035760"/>
            <a:ext cx="8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320" y="6008760"/>
            <a:ext cx="741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5880" y="600552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85880" y="6008760"/>
            <a:ext cx="4812840" cy="0"/>
            <a:chOff x="785880" y="6008760"/>
            <a:chExt cx="4812840" cy="0"/>
          </a:xfrm>
        </p:grpSpPr>
        <p:sp>
          <p:nvSpPr>
            <p:cNvPr id="123" name=""/>
            <p:cNvSpPr/>
            <p:nvPr/>
          </p:nvSpPr>
          <p:spPr>
            <a:xfrm>
              <a:off x="785880" y="6008760"/>
              <a:ext cx="16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90040" y="6008760"/>
              <a:ext cx="16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94200" y="6008760"/>
              <a:ext cx="160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581800" y="600696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65840" y="6048360"/>
            <a:ext cx="8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3933360"/>
            <a:ext cx="1603440" cy="9334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80000" y="2133720"/>
            <a:ext cx="1656000" cy="179064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236000" y="1413000"/>
            <a:ext cx="431640" cy="72072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67640" y="1125000"/>
            <a:ext cx="144360" cy="28764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82800" y="4697280"/>
            <a:ext cx="10681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Ressource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1680" y="4410000"/>
            <a:ext cx="10666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Labour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08600" y="3786120"/>
            <a:ext cx="10681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Capital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8040" y="2924280"/>
            <a:ext cx="10666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Technology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00" y="468648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2440" y="411012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1009800"/>
            <a:ext cx="0" cy="49402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52960" y="1989000"/>
            <a:ext cx="10670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Brain 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2960" y="2133720"/>
            <a:ext cx="10666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Knowledge int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7120" y="290988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9440" y="232092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1520" y="1728720"/>
            <a:ext cx="3668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961920"/>
            <a:ext cx="1152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332000" y="2924280"/>
          <a:ext cx="1915920" cy="30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924280"/>
                    <a:ext cx="191592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348000" y="2492280"/>
          <a:ext cx="5037120" cy="374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492280"/>
                    <a:ext cx="50371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203640" y="1773360"/>
            <a:ext cx="56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PMingLiU"/>
              </a:rPr>
              <a:t>Shares of World Manufacturing Output by Civilization or Country, 1750-2000 (in percentages. World=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81800" y="6524640"/>
            <a:ext cx="3669840" cy="360360"/>
            <a:chOff x="5581800" y="6524640"/>
            <a:chExt cx="3669840" cy="360360"/>
          </a:xfrm>
        </p:grpSpPr>
        <p:sp>
          <p:nvSpPr>
            <p:cNvPr id="151" name=""/>
            <p:cNvSpPr/>
            <p:nvPr/>
          </p:nvSpPr>
          <p:spPr>
            <a:xfrm>
              <a:off x="6075720" y="6524640"/>
              <a:ext cx="3120120" cy="360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576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81800" y="6536880"/>
              <a:ext cx="366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576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Mitchell Tseng, CI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980800" y="76212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PMingLiU"/>
              </a:rPr>
              <a:t>Contribution to Globa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1926720"/>
            <a:ext cx="8785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Cancellation of differences between competitors in the resource-based economy 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(cost-driven)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ocus on Added Value product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fr-BE" sz="2400" spc="-1" strike="noStrike">
                <a:solidFill>
                  <a:srgbClr val="3333cc"/>
                </a:solidFill>
                <a:latin typeface="Arial"/>
              </a:rPr>
              <a:t>Added Value products </a:t>
            </a:r>
            <a:r>
              <a:rPr b="0" i="1" lang="fr-BE" sz="2800" spc="-1" strike="noStrike">
                <a:solidFill>
                  <a:srgbClr val="3333cc"/>
                </a:solidFill>
                <a:latin typeface="Arial"/>
                <a:ea typeface="Arial"/>
              </a:rPr>
              <a:t>≠</a:t>
            </a:r>
            <a:r>
              <a:rPr b="0" i="1" lang="fr-BE" sz="2400" spc="-1" strike="noStrike">
                <a:solidFill>
                  <a:srgbClr val="3333cc"/>
                </a:solidFill>
                <a:latin typeface="Arial"/>
                <a:ea typeface="Arial"/>
              </a:rPr>
              <a:t> high-tech products)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Increasing role of knowledge 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(new factor of production)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 leading to the knowledge-based economy 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(value-driven)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Important discontinuities in: products, production, industrial organisation and people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4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692280"/>
            <a:ext cx="683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Towards new paradigms: the industrial mu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5600" y="1590840"/>
            <a:ext cx="4316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a50021"/>
                </a:solidFill>
                <a:uFillTx/>
                <a:latin typeface="Arial"/>
              </a:rPr>
              <a:t>OLD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a50021"/>
                </a:solidFill>
                <a:latin typeface="Arial"/>
              </a:rPr>
              <a:t>(resource-ba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Compact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Production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Mass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Quantity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Resource-int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Production/cost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6676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Linear approach (</a:t>
            </a:r>
            <a:r>
              <a:rPr b="1" i="1" lang="fr-BE" sz="1800" spc="-1" strike="noStrike">
                <a:solidFill>
                  <a:srgbClr val="3333cc"/>
                </a:solidFill>
                <a:latin typeface="Arial"/>
              </a:rPr>
              <a:t>Taylorism </a:t>
            </a: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in prod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519200"/>
            <a:ext cx="43164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Arial"/>
              </a:rPr>
              <a:t>NEW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a50021"/>
                </a:solidFill>
                <a:latin typeface="Arial"/>
              </a:rPr>
              <a:t>(knowledge-ba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xtended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Network of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cus to add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Quality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Brain int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mand/value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imultaneous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89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0000"/>
                </a:solidFill>
                <a:latin typeface="Arial"/>
              </a:rPr>
              <a:t>The fundament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913760" y="950400"/>
            <a:ext cx="5388480" cy="5388840"/>
            <a:chOff x="1913760" y="950400"/>
            <a:chExt cx="5388480" cy="5388840"/>
          </a:xfrm>
        </p:grpSpPr>
        <p:sp>
          <p:nvSpPr>
            <p:cNvPr id="160" name="_s1016836"/>
            <p:cNvSpPr/>
            <p:nvPr/>
          </p:nvSpPr>
          <p:spPr>
            <a:xfrm>
              <a:off x="2679480" y="1716120"/>
              <a:ext cx="3857400" cy="385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_s1016837"/>
            <p:cNvSpPr/>
            <p:nvPr/>
          </p:nvSpPr>
          <p:spPr>
            <a:xfrm rot="4320000">
              <a:off x="2678760" y="1716120"/>
              <a:ext cx="3857760" cy="385740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_s1016838"/>
            <p:cNvSpPr/>
            <p:nvPr/>
          </p:nvSpPr>
          <p:spPr>
            <a:xfrm rot="8640000">
              <a:off x="2678760" y="1716120"/>
              <a:ext cx="3857400" cy="385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1016839"/>
            <p:cNvSpPr/>
            <p:nvPr/>
          </p:nvSpPr>
          <p:spPr>
            <a:xfrm rot="12960000">
              <a:off x="2679120" y="1715760"/>
              <a:ext cx="3857400" cy="385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1016840"/>
            <p:cNvSpPr/>
            <p:nvPr/>
          </p:nvSpPr>
          <p:spPr>
            <a:xfrm rot="17280000">
              <a:off x="2678760" y="1716120"/>
              <a:ext cx="3857760" cy="385740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1016841"/>
            <p:cNvSpPr/>
            <p:nvPr/>
          </p:nvSpPr>
          <p:spPr>
            <a:xfrm>
              <a:off x="3163680" y="1814760"/>
              <a:ext cx="8503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Socie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1016842"/>
            <p:cNvSpPr/>
            <p:nvPr/>
          </p:nvSpPr>
          <p:spPr>
            <a:xfrm>
              <a:off x="5833800" y="3754800"/>
              <a:ext cx="8506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1016843"/>
            <p:cNvSpPr/>
            <p:nvPr/>
          </p:nvSpPr>
          <p:spPr>
            <a:xfrm>
              <a:off x="2531880" y="3754800"/>
              <a:ext cx="8503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Encourag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ff3300"/>
                  </a:solidFill>
                  <a:latin typeface="Arial"/>
                </a:rPr>
                <a:t>Inno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1016844"/>
            <p:cNvSpPr/>
            <p:nvPr/>
          </p:nvSpPr>
          <p:spPr>
            <a:xfrm>
              <a:off x="5202000" y="1814760"/>
              <a:ext cx="8506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Edu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nd 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1016845"/>
            <p:cNvSpPr/>
            <p:nvPr/>
          </p:nvSpPr>
          <p:spPr>
            <a:xfrm>
              <a:off x="4182840" y="4954680"/>
              <a:ext cx="85068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6360" y="2988000"/>
              <a:ext cx="266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A Competitive R&amp;D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732720" y="462744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Univers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esearch in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olicy ma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2971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thics, health &amp;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formation +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6200" y="127476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terdisciplin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trepreneu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64184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isc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tents, I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rms/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dministrative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398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3300"/>
                </a:solidFill>
                <a:latin typeface="Arial"/>
              </a:rPr>
              <a:t>Governing th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000046"/>
              </a:solidFill>
              <a:uFillTx/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6000" y="597996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Governance of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21300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andmarks are disappearing. New ones have to be f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1640" y="2565360"/>
            <a:ext cx="360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05740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bjecti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creasing flex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ducing tangible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by optimising 4 glob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Knowledge production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mponent suppliers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ssembling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emand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700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Extended enterpr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5T14:49:40Z</dcterms:created>
  <dc:creator>magisbe</dc:creator>
  <dc:description/>
  <dc:language>en-US</dc:language>
  <cp:lastModifiedBy>laurad</cp:lastModifiedBy>
  <cp:lastPrinted>2003-08-29T08:55:03Z</cp:lastPrinted>
  <dcterms:modified xsi:type="dcterms:W3CDTF">2006-11-08T08:51:30Z</dcterms:modified>
  <cp:revision>781</cp:revision>
  <dc:subject/>
  <dc:title>Rompre avec le pass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6578952</vt:r8>
  </property>
  <property fmtid="{D5CDD505-2E9C-101B-9397-08002B2CF9AE}" pid="3" name="_AuthorEmail">
    <vt:lpwstr>Roberta.Zobbi@cec.eu.int</vt:lpwstr>
  </property>
  <property fmtid="{D5CDD505-2E9C-101B-9397-08002B2CF9AE}" pid="4" name="_AuthorEmailDisplayName">
    <vt:lpwstr>ZOBBI Roberta (RTD)</vt:lpwstr>
  </property>
  <property fmtid="{D5CDD505-2E9C-101B-9397-08002B2CF9AE}" pid="5" name="_EmailSubject">
    <vt:lpwstr>Slides per il 25/09 da parte del Dr. Andreta</vt:lpwstr>
  </property>
  <property fmtid="{D5CDD505-2E9C-101B-9397-08002B2CF9AE}" pid="6" name="_NewReviewCycle">
    <vt:lpwstr/>
  </property>
</Properties>
</file>